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11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528-CFA0-4ECC-A4D0-C2B96C39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B6E-F80B-4C7D-AC21-A21A9FD3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F65-FEE4-43E5-9B73-AB070AAC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7F3-7F9E-46B3-B494-3870C235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354A-CA77-4F10-891C-65AB7E0B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22A0-78D0-460A-A5D9-252A2E0F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B371-7A7D-460A-B6F4-DC97373B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BAE4-6447-4C70-8530-F8647DFE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5ACC-FDB0-4C54-A800-72587D38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B23B-6DEC-4DED-B443-CD741FBD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1161-6EAB-4445-8472-5BFA9883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4A5-0821-476F-AF9D-627C6561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3DC3-0B15-430A-AE29-B15009E9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CAE4-3D14-464B-8B89-47ACC40C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DC96-9072-4D8E-8D0F-28A2D847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C5D0-2A17-47F7-BFB6-9B7FB925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9DB1-05EB-4563-98FF-077A7A40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019F7-6AA3-4C47-A550-B99FC942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9F067-0723-4E5B-A58D-E093F9A4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0C94-3127-4B02-8F5B-77C07DDD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F7B0B-AFEF-46D7-A6B6-42C48F2A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79F0-532C-4F16-B5AC-77201F22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ADF-8734-4FFD-83B1-9B3509F0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2B59E-1D70-4ADF-9388-BD70EA89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59B92-6EC5-4CD6-8B3B-90DB6B4D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A73DD-26C6-41F5-BA5D-45591D7D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94AFC-392F-4CBC-99DE-6B217C6D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63CB-772A-4881-8380-07349C62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F5F6A-F631-4EE2-987A-40B34D42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A6F82-0983-40BC-8C07-FE87EB04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68231-5F43-44BD-A8D9-0DAC2AD4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0A1EE-C919-4586-BEE0-14D37131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8297D-FA7B-4EF7-B007-C44CD357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BC3-93B3-43A2-ACAF-9218F441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8E77E-11CB-4808-90EF-C8B667E8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3CCD1-51F8-4C4B-A44C-53776E68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D4CCA-0FC5-4200-9640-E474DE86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2EF1E-ADDA-4C6E-8511-3A66419A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FB1C1-2D71-491C-9591-6A7B18B0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BB13A-4E45-451C-86B5-14AA0267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750C9-1B96-46F2-B076-AF5AB409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535E-0F56-4CD8-9C12-0379EAA0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59B10-3161-47CD-82B7-FBA45A74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324-26F6-4E1D-B61C-1C0C0DA6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FA9-E749-41F5-8D73-63EFB2A6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EF5-1543-4708-A9F0-42D304B5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516-005F-4BBD-9376-2B5765C8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5889-BE55-4323-9AA3-39F91817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F69E-BB2D-448C-BAA8-B1BFDB90F7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4532-5C7E-4703-AF25-88061813B2E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39D8-FF41-4151-BB27-1781EEDAA3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BCEC-8D4D-417C-9BD2-015BB568D77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MP900439539[1]"/>
          <p:cNvPicPr/>
          <p:nvPr/>
        </p:nvPicPr>
        <p:blipFill>
          <a:blip r:embed="rId1"/>
          <a:stretch/>
        </p:blipFill>
        <p:spPr>
          <a:xfrm>
            <a:off x="228600" y="-1447920"/>
            <a:ext cx="8686800" cy="102110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6324480" y="2133720"/>
            <a:ext cx="281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ra de Limba Roman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219320" y="25909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Litera si sunet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folog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ubRRectCallout"/>
          <p:cNvSpPr/>
          <p:nvPr/>
        </p:nvSpPr>
        <p:spPr>
          <a:xfrm>
            <a:off x="609480" y="1219320"/>
            <a:ext cx="7010640" cy="3047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85800" y="533520"/>
            <a:ext cx="68580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5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Care este diferenta dintre o LITERA si un SUNET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meditatii_elevi"/>
          <p:cNvPicPr/>
          <p:nvPr/>
        </p:nvPicPr>
        <p:blipFill>
          <a:blip r:embed="rId1"/>
          <a:stretch/>
        </p:blipFill>
        <p:spPr>
          <a:xfrm>
            <a:off x="3657600" y="4038480"/>
            <a:ext cx="4343400" cy="2660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838080" y="3049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 dintre elevi intreaba adeseor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3059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533520" y="10666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e este scopul acestul mater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533520" y="1981080"/>
            <a:ext cx="426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PUL nostru este de a reduce, sau chiar a elimina numarul de elevi ce nu pot, sau nu stiu sa deosebeasca LITERA de SU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MC900439407[1]"/>
          <p:cNvPicPr/>
          <p:nvPr/>
        </p:nvPicPr>
        <p:blipFill>
          <a:blip r:embed="rId1"/>
          <a:stretch/>
        </p:blipFill>
        <p:spPr>
          <a:xfrm>
            <a:off x="4419720" y="1676520"/>
            <a:ext cx="4473360" cy="4819680"/>
          </a:xfrm>
          <a:prstGeom prst="rect">
            <a:avLst/>
          </a:prstGeom>
          <a:ln w="0">
            <a:noFill/>
          </a:ln>
        </p:spPr>
      </p:pic>
      <p:pic>
        <p:nvPicPr>
          <p:cNvPr id="184" name="TextBox 4" descr=""/>
          <p:cNvPicPr/>
          <p:nvPr/>
        </p:nvPicPr>
        <p:blipFill>
          <a:blip r:embed="rId2"/>
          <a:stretch/>
        </p:blipFill>
        <p:spPr>
          <a:xfrm>
            <a:off x="2109960" y="-895320"/>
            <a:ext cx="4844880" cy="31687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762120" y="1066680"/>
            <a:ext cx="4572000" cy="46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0"/>
          <p:cNvSpPr/>
          <p:nvPr/>
        </p:nvSpPr>
        <p:spPr>
          <a:xfrm>
            <a:off x="457200" y="1981080"/>
            <a:ext cx="41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e semnul grafic din alfabetul unei limbi, care corespunde, in general, unui sunet al limbii re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1" descr="MC900439512[2]"/>
          <p:cNvPicPr/>
          <p:nvPr/>
        </p:nvPicPr>
        <p:blipFill>
          <a:blip r:embed="rId1"/>
          <a:stretch/>
        </p:blipFill>
        <p:spPr>
          <a:xfrm>
            <a:off x="3733920" y="2514600"/>
            <a:ext cx="5715000" cy="7086600"/>
          </a:xfrm>
          <a:prstGeom prst="rect">
            <a:avLst/>
          </a:prstGeom>
          <a:ln w="0">
            <a:noFill/>
          </a:ln>
        </p:spPr>
      </p:pic>
      <p:pic>
        <p:nvPicPr>
          <p:cNvPr id="188" name="TextBox 4" descr=""/>
          <p:cNvPicPr/>
          <p:nvPr/>
        </p:nvPicPr>
        <p:blipFill>
          <a:blip r:embed="rId2"/>
          <a:stretch/>
        </p:blipFill>
        <p:spPr>
          <a:xfrm>
            <a:off x="3108240" y="-920880"/>
            <a:ext cx="3043440" cy="3299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304920" y="2819520"/>
            <a:ext cx="4495680" cy="22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O definitie mai scur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,,</a:t>
            </a:r>
            <a:r>
              <a:rPr b="1" i="1" lang="en-US" sz="3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Sunetul</a:t>
            </a:r>
            <a:r>
              <a:rPr b="0" lang="en-US" sz="3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 este reprezentarea sonora a literelor.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Rectangle 5" descr=""/>
          <p:cNvPicPr/>
          <p:nvPr/>
        </p:nvPicPr>
        <p:blipFill>
          <a:blip r:embed="rId3"/>
          <a:stretch/>
        </p:blipFill>
        <p:spPr>
          <a:xfrm>
            <a:off x="176040" y="1536840"/>
            <a:ext cx="9126720" cy="1455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j0301252"/>
          <p:cNvPicPr/>
          <p:nvPr/>
        </p:nvPicPr>
        <p:blipFill>
          <a:blip r:embed="rId1"/>
          <a:stretch/>
        </p:blipFill>
        <p:spPr>
          <a:xfrm>
            <a:off x="-533520" y="380880"/>
            <a:ext cx="7848720" cy="67122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3429000" y="22860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ru a le raspunde elevilor la intrebare si a-i lamuri cu privinta la LITERE si SUNETE, am extras o concluzie din aceasta prezent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0" y="1295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 o legatura intre 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oarece LITERA 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0" y="19051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em, iar cu ajuto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0" y="2209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ETULUI pronun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838080" y="2514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 litera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0" y="914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TER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ETU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5276880"/>
            <a:ext cx="25146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erial realizat de catre       elevele clsasei a VI-a 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oana Cosma si Alina Stoi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n Scoala cu clasele I-VIII N.I. JILINSCHI Verne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45:53Z</dcterms:created>
  <dc:creator>ddd</dc:creator>
  <dc:description/>
  <dc:language>en-US</dc:language>
  <cp:lastModifiedBy>Marius</cp:lastModifiedBy>
  <dcterms:modified xsi:type="dcterms:W3CDTF">2010-10-06T08:07:29Z</dcterms:modified>
  <cp:revision>20</cp:revision>
  <dc:subject/>
  <dc:title>Slide 1</dc:title>
</cp:coreProperties>
</file>